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6517-7480-469E-A982-3C4A10DA2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BBF5-7BC1-4BB2-8395-51E0D3EF6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B35-1BF7-4694-99C8-AC1B071E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87C-DA23-4FE0-81A8-748CDAAE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E21E-96AD-46AF-8CF6-6F8E3D4C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5DE-FC61-4B56-84CA-53F3C880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F7E-F0E0-4A84-8F0F-7E6731F6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4A8-C787-4921-A146-63FA06AC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94C-F4B3-4ED5-A8BE-8BF41CAF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374-3DF7-4C52-80BC-BDC250D3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A231-3DF9-44D8-B210-794D9235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BB1-F038-4751-AED7-F10E4CD2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8CF-80B0-4EF5-AB79-2ED1AE35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90E-A67D-4B73-B0DA-026E9736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184B-86B1-4009-A252-7945B4804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4.jpeg"/><Relationship Id="rId11" Type="http://schemas.openxmlformats.org/officeDocument/2006/relationships/image" Target="../media/image6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hristy Latsou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hristy Latsoun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Christy Latsounas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Christy Latsouna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9718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Christy Latsoun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wee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ki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79132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lv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Ani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iene el libros de matemáticas.¿ Dónde estás cookie?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cooki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, muy bien. ¿Que es la terea ? .¿ Tienes  tus libros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temáticas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Sylve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omo estás?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Sylve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Él está en su cuarto grande y reluciente. Yo no se cookie. Estam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juntos ahora. Nuestros amigos llegan. Tu carro está  aquí. Nosotros som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uapos y buscamos tweety ahor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Anim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eno ahora.¿ Por qué eres tú guapo? No importa adió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Sylve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ha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65360" y="640080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28600" y="3733920"/>
            <a:ext cx="1600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i nobre es christy. Tengo 14 años. Estoy feliz. Vivo en New york. Amo  cantar y bailar. Hago gimnasia. Escucho música loc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1" descr="551524_497579363608127_481304548_n"/>
          <p:cNvPicPr/>
          <p:nvPr/>
        </p:nvPicPr>
        <p:blipFill>
          <a:blip r:embed="rId1"/>
          <a:stretch/>
        </p:blipFill>
        <p:spPr>
          <a:xfrm>
            <a:off x="152280" y="838080"/>
            <a:ext cx="1524240" cy="137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3" descr="ANd9GcTV69yPXS68d1YRSpVN2tZd0v6c-sdrpaIslawEtFftBzY89Reg"/>
          <p:cNvPicPr/>
          <p:nvPr/>
        </p:nvPicPr>
        <p:blipFill>
          <a:blip r:embed="rId2"/>
          <a:stretch/>
        </p:blipFill>
        <p:spPr>
          <a:xfrm>
            <a:off x="152280" y="5257800"/>
            <a:ext cx="533520" cy="422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5" descr="ANd9GcRa8e_m7-RDFwIelu_UhP5Wd4rSItYO85G1LcA3cxMTl0Yylc8wWQ"/>
          <p:cNvPicPr/>
          <p:nvPr/>
        </p:nvPicPr>
        <p:blipFill>
          <a:blip r:embed="rId3"/>
          <a:stretch/>
        </p:blipFill>
        <p:spPr>
          <a:xfrm>
            <a:off x="838080" y="525780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7" descr="ANd9GcQf5mJR3sD-OlOaCkm8vTiLZ_GKFKWeC4aJTgmChLwod8AMhfy6"/>
          <p:cNvPicPr/>
          <p:nvPr/>
        </p:nvPicPr>
        <p:blipFill>
          <a:blip r:embed="rId4"/>
          <a:stretch/>
        </p:blipFill>
        <p:spPr>
          <a:xfrm>
            <a:off x="1371600" y="5257800"/>
            <a:ext cx="46188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9" descr="ANd9GcS_eJE2CB7yF7ZqHgF62vmxxKTULrOp3Qq0TNTLeXZv4X7MliEJ6Q"/>
          <p:cNvPicPr/>
          <p:nvPr/>
        </p:nvPicPr>
        <p:blipFill>
          <a:blip r:embed="rId5"/>
          <a:stretch/>
        </p:blipFill>
        <p:spPr>
          <a:xfrm>
            <a:off x="2133720" y="320040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2" descr="ANd9GcQp2xjpl3aCtxUS7FZbN3aLGN2HFkYFXIUUglxQsvCBBeoEZy20"/>
          <p:cNvPicPr/>
          <p:nvPr/>
        </p:nvPicPr>
        <p:blipFill>
          <a:blip r:embed="rId6"/>
          <a:stretch/>
        </p:blipFill>
        <p:spPr>
          <a:xfrm>
            <a:off x="838080" y="5943600"/>
            <a:ext cx="462240" cy="46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ANd9GcQf5mJR3sD-OlOaCkm8vTiLZ_GKFKWeC4aJTgmChLwod8AMhfy6"/>
          <p:cNvPicPr/>
          <p:nvPr/>
        </p:nvPicPr>
        <p:blipFill>
          <a:blip r:embed="rId7"/>
          <a:stretch/>
        </p:blipFill>
        <p:spPr>
          <a:xfrm>
            <a:off x="2209680" y="2590920"/>
            <a:ext cx="462240" cy="53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9" descr="ANd9GcS_eJE2CB7yF7ZqHgF62vmxxKTULrOp3Qq0TNTLeXZv4X7MliEJ6Q"/>
          <p:cNvPicPr/>
          <p:nvPr/>
        </p:nvPicPr>
        <p:blipFill>
          <a:blip r:embed="rId8"/>
          <a:stretch/>
        </p:blipFill>
        <p:spPr>
          <a:xfrm>
            <a:off x="152280" y="594360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2" descr="ANd9GcQp2xjpl3aCtxUS7FZbN3aLGN2HFkYFXIUUglxQsvCBBeoEZy20"/>
          <p:cNvPicPr/>
          <p:nvPr/>
        </p:nvPicPr>
        <p:blipFill>
          <a:blip r:embed="rId9"/>
          <a:stretch/>
        </p:blipFill>
        <p:spPr>
          <a:xfrm>
            <a:off x="2133720" y="3809880"/>
            <a:ext cx="461880" cy="46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7" descr="ANd9GcQf5mJR3sD-OlOaCkm8vTiLZ_GKFKWeC4aJTgmChLwod8AMhfy6"/>
          <p:cNvPicPr/>
          <p:nvPr/>
        </p:nvPicPr>
        <p:blipFill>
          <a:blip r:embed="rId10"/>
          <a:stretch/>
        </p:blipFill>
        <p:spPr>
          <a:xfrm>
            <a:off x="2133720" y="4419720"/>
            <a:ext cx="461880" cy="53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2" descr="ANd9GcQp2xjpl3aCtxUS7FZbN3aLGN2HFkYFXIUUglxQsvCBBeoEZy20"/>
          <p:cNvPicPr/>
          <p:nvPr/>
        </p:nvPicPr>
        <p:blipFill>
          <a:blip r:embed="rId11"/>
          <a:stretch/>
        </p:blipFill>
        <p:spPr>
          <a:xfrm>
            <a:off x="2133720" y="5257800"/>
            <a:ext cx="461880" cy="46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7" descr="ANd9GcQf5mJR3sD-OlOaCkm8vTiLZ_GKFKWeC4aJTgmChLwod8AMhfy6"/>
          <p:cNvPicPr/>
          <p:nvPr/>
        </p:nvPicPr>
        <p:blipFill>
          <a:blip r:embed="rId12"/>
          <a:stretch/>
        </p:blipFill>
        <p:spPr>
          <a:xfrm>
            <a:off x="2209680" y="5943600"/>
            <a:ext cx="462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27:01Z</dcterms:created>
  <dc:creator>FriscoISD</dc:creator>
  <dc:description/>
  <dc:language>en-US</dc:language>
  <cp:lastModifiedBy>NYCDOE</cp:lastModifiedBy>
  <dcterms:modified xsi:type="dcterms:W3CDTF">2012-12-07T13:58:06Z</dcterms:modified>
  <cp:revision>108</cp:revision>
  <dc:subject/>
  <dc:title>Profile</dc:title>
</cp:coreProperties>
</file>